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ADD-4779-4A91-B554-20CA314B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(Marzano) Note taking skills.  Students have to be taught to take good notes.  There are many formats:  Informal outlines, webbing, combinations notes—each page is divided into three parts—left hand side is reserved for notes taken using informal outlining, right-handed side is reserved notes taken using webbing and the bottom of the page is reserved for summary statements.  (Page 48 in Marzano for ex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students the importance of believing in effort.  Michael Jorda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Language:  The Very Hungry Caterpillar--Se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C15-C23C-4439-9EDF-A1F79248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10B-7C9D-44B6-87D4-D31ECAE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F52-D0CD-4995-9442-DA8CE1E3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A52-2B62-4C4B-BFF3-2093FFE2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2F28-04CB-44AE-9881-5F1F8AF6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BD3-6340-41C1-808A-484FF9A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70B-9E84-4FB8-9F1D-AB413C86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E8B-1BF8-4256-8AC6-B5B539F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B32E-393A-4407-9D07-C83C27F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073-E5E0-44F0-BCE6-9BC4655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3F7-7A0E-4969-A16C-12A9144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FBE-6918-4784-86B8-1D91226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7EBD-DCD2-4281-9A3A-F9CB89F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3DC0-6600-48B9-A549-B920471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A96-5C1D-4006-A723-3797C51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230-76F6-4B87-9B26-D8E08DB6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3857-67EA-4299-96C3-83DA7C78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D2A-DE7D-413E-AA27-4851556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45A-4DD6-4D60-9611-50C60497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570-9588-4494-9869-3E9ED66B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B79-FCB3-4623-AFA1-2EB5E5B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DF2-DA0F-4F25-9CD3-C85C9A5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B3F-1632-4909-878B-5A0EDD5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0C1-5BDB-4623-9107-A972914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107-A25A-4025-8817-0412D54C57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F97F-53CB-4550-AA3F-FEF6789557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anguage Acquisition Theo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for the Second Language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production Strateg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0 % Teacher Ta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P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student invol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, what, where, and yes/no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follows comm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of pictures and realia (actual objects be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d 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 speech—not lou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 Strateg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-60% teacher talk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PR with responses both verbal and non-verb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o-what-where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le playing (puppe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ing sent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 questions with phras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ing objec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rad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iews with guidelin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r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spaper a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0% teacher talk - - 60% student respon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oet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dict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ar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scrib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interaction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—why questions Language experience stori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ntenc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tell in own word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oblem solv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oup discuss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Labeling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Listin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pping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am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r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aph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abl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wspaper ad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Group discussion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ki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Oral reading by teach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usic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adio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deo Film strip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iling out form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scriptions of visual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Writing paragraph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% teacher ta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say wri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exper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yzing charts and grap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olving and evalua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inuing with who-what-how-why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writing activ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ry analy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for sheltered content subject are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phras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gotiating mea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ing and mapp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al discuss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lepho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uided disco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nguage exper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ing aloud literary excerp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etry Play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oup pane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spaper arti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ump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jectu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dic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PR—Total Physical Response Five Step Process—If there is hesitation or confusion begin agai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says and models new vocabulary words—student liste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and models with: large group, then small group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without modeling and:  large group responds by doing the action, then small group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recombines old and new commands without modeling and:  group(s) responds by doing the action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ructor commands NOVEL COMMANDS (in combination with basic commands) without modeling and group(s) responds by doing the action, then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mplified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ower spee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 pronunc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r Simpler sentences and then high level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rolled vocabul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tement, examples, synonyms, expa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t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mar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-read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extua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the message; its meaning and the task to be accomp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visu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realia, props,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udio c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dy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graphs, charts, word webbing, mind m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sens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matic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eacher/Student Initiated Intera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on che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rification requ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-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tial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ing of personal experiences and feel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active te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Sheltered English Instr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pulative ori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ode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matic lear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e-inf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i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on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-cen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BICS—2 Years to Develo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sic Interpersonal Communication Skills-B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-to-face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through exposure to English speaking peers, TV, and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sonality variables—motivation, self-esteem, conf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s the daily oral language students use to communicate in the new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room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ly motiv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fortable atmosp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tress on oral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sitivity to cultural dif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itive rei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ive partic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gaged in oral commun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on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sk analyzed appropriate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ve step lesson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ropriate questioning techniq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accept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language struc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ing and clear dir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cking for understa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Quick Check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ities/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development in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of visual aids and manipul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ent driven curricul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ing, speaking, reading and writ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perative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Merging Seco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anguage Acquisition Theory and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Sheltered Content Instructio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must:  function as a facilitator, providing student centered activities which foster the acquisition of 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the instruction compreh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aware of each student’s stage of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understanding and accepting of errors in language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con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low anxiety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d on students’ prior exper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Requireme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sson is organized around an identifiable topic and clearly defined objectives—Matched to  USOE Core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creates a positive learning situation (uses anticipatory set, positive reinforcement, appropriate learner feedback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 frequently checks for understanding (student correction proced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ers tries to lower affective filter by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ing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 respon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a safe environment that encourage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s students to volunteer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oose at least six of the suggestions listed below and incorporate in your lesson plan activities for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phic organizer (Venn diagram, webbing, ma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s (pictures, video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ipulatives or realia (“real object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stures/body language/ facial expressions (TP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ys attention to rate of spee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s vocabulary or rephr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eats key vocabulary &amp; puts language in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 opportunities for student to listen and speak (role play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opportunities for students to read &amp; wr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operative learning grou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cabulary building games and exerci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 Plan Continu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must outline specific ways to address the ESL student’s needs in reading and writing in the four major categories (preproduction, early production, speech emergence, and intermediate fluenc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needs a simulation idea, minimum of four internet sites, a project from each of the following technology programs: a video clip made from Movie Maker, a newsletter from Publisher, organizational idea from Inspiration, assessment collection model from excel, and information from word fi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esson plan must include a grading rubric for the student’s final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on Plan will be presented in  PowerPoint at the end of the week and copied to a CD to give to all teac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Garamond"/>
              </a:rPr>
              <a:t>ALP levels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A – No English Proficiency, (Beginning), 3 ALP cla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B – Limited English Proficiency, (Intermediate), 2-3 ALP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C – Limited English Proficiency (Advanced). Monitored regularly, no or 1 ALP cla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D – Full English Proficiency (Full). Out of ALP but monitored for 2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 E – Former ALP student (exited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LP Program Placement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8080"/>
          <a:ext cx="8991720" cy="6019560"/>
        </p:xfrm>
        <a:graphic>
          <a:graphicData uri="http://schemas.openxmlformats.org/drawingml/2006/table">
            <a:tbl>
              <a:tblPr/>
              <a:tblGrid>
                <a:gridCol w="1076400"/>
                <a:gridCol w="1228680"/>
                <a:gridCol w="1152360"/>
                <a:gridCol w="1230480"/>
                <a:gridCol w="922320"/>
                <a:gridCol w="2097000"/>
                <a:gridCol w="12844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-R-W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ficiency Poi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ea of English Limita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glish Proficiency Lev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tu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cus of Language Instru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-N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N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inn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Engli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C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L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-L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medi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Engli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amp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L-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vanc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Individual English Instruc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Sheltered Hist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if need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L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in Stre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i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C-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itored  2 year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rmer ALP Stud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1447920"/>
          <a:ext cx="9143640" cy="4495320"/>
        </p:xfrm>
        <a:graphic>
          <a:graphicData uri="http://schemas.openxmlformats.org/drawingml/2006/table">
            <a:tbl>
              <a:tblPr/>
              <a:tblGrid>
                <a:gridCol w="2986200"/>
                <a:gridCol w="2926440"/>
                <a:gridCol w="3231000"/>
              </a:tblGrid>
              <a:tr h="44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PT sc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= 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 = R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= Wri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 = N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 = Limi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Flu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 = Compe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oficienc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 =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 =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PT Desig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S = Non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 = Limited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S = Fluent English 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R = Non English Read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R = Limited English Rea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R = Competent English Rea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 = Non English Wri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W = Limited English Wr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W = Competent English Wr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45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gnitive CALP—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-7 Years to Develop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gnitive Academic Language Proficiency-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ademic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cy related language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ed through reading comprehension, writing ability, higher 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language development influ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29160"/>
            <a:ext cx="56386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x Elder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L/ALP Gradual Exi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003-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2480" y="16002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Intensive English Instruction                                             Mike Robinson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OUT: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ESL Government (sheltered)                              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:    Art, music, P.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750680" y="3165480"/>
            <a:ext cx="3612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52480" y="3352680"/>
          <a:ext cx="5029200" cy="13654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English (sheltered)                                                            Martha Per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ESL Government (sheltered)                             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Individual English Instruction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 startAt="5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751400" y="5025960"/>
            <a:ext cx="403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 C &amp; 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52480" y="52578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OU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OUT:  ESL Government (if needed)                                 Peter Gerlac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(C’s if needed)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752480" y="6675480"/>
            <a:ext cx="184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295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w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tegory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tural Order Hypoth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order of acquisition occurs reliab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l structures are acquired in a predictable orde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quisition of the first language and acquisition of a second language are not done at the same 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-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they lis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Non-English Speaker or very limited based on IPT Tests—IPT Tests will be previewed l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10 hours to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Receptive words (words they understand in Englis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CS are developing (playground languag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Liste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Limited English Speaker based on IPT T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with one or two words and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3.6 months to 1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00 receptive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a Limited English Speaker to a fluent speaker based on IPT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errors in speech patterns but the meaning is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1-2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seem fluent (based on IPT) but needs to expand vocabulary and 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s in dialo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3-4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P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 of Teaching Strategi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instorm in groups for strategies for each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01:06Z</dcterms:created>
  <dc:creator>Jeanette Christenson</dc:creator>
  <dc:description/>
  <dc:language>en-US</dc:language>
  <cp:lastModifiedBy>Mike Robinson</cp:lastModifiedBy>
  <dcterms:modified xsi:type="dcterms:W3CDTF">2004-01-14T21:43:45Z</dcterms:modified>
  <cp:revision>27</cp:revision>
  <dc:subject/>
  <dc:title>Language Acquisition Theory</dc:title>
</cp:coreProperties>
</file>